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EEBC7-C7E9-4A84-9773-D13E1E47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519ED-7F3F-4991-A923-1DE6CB50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7658B-1396-4093-8C3A-C205AB81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12E6B-355A-4136-9D50-39582C0A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E138A-EE2A-427F-B10B-0CEDFC1C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AA827-4344-4AB7-AE97-3AA75BD4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BA93A-EAF0-4CD4-9F1A-39F1CF47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E24D6-3C26-4690-8CDF-172EEEC6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AFF67-D695-4572-B336-4CC996CE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2F64C-43BC-4FF3-A0B9-8468A81D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8AE2A-67D2-496B-BC1C-DC0567D8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06E5-9500-4FD8-BE29-905AB9F4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71774-DA4D-4784-BAFC-CE759643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466B6-B8E2-42D1-89DF-529C69B1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607C7-705B-49D8-BC88-47821C8B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5CB0C-2662-4FF6-9C7E-FCACC6C6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95D44-DADD-489C-86FB-3E3C37AA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46B05-92B1-4ADE-A24C-2B4B44ED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F609F-19B3-4D2F-B916-439A59CC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65AEF-5951-4680-9C1A-2D7C9133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1300D-FD41-49E4-87EF-2044D098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FEF4-51FC-4BB7-82B5-184FF3FE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5502-0239-42DD-9F66-A5A66BD7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A8BC0-518A-4CD6-891C-F7A245F4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D74E-312F-41B9-86BF-682AEAF79DA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476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EA6C-064C-4816-9A8C-DEA83489568B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399360" cy="15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903B-05D9-4FFE-8E07-5C44B4A318E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BA88-B054-40B0-AA20-2D9EA4240DDD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63993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PT Bold Heading"/>
              </a:rPr>
              <a:t>الإجراءات المستخدمة في إدارة شئون الموظفين</a:t>
            </a: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36FC4-19F4-4273-B474-7183697218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51EB4C3F-CC21-4675-BFBA-976D0A8EF3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بلاغ عن إصابة عمل أو وفا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6095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عبئة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المعد لذل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كان وقوع الإصابة بدق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وقع سكن ا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المسمى الوظيفي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تاريخ الإصابة والإبلاغ عنها لمؤسسة التأمين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قل المصاب إلى جهة العلاج المخصصة مع أصل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عطاء وصف كامل ل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جراء تحقيق إداري خاص بالشركة عن ا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فاق رخصة القيادة في حال الحوادث المروري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سم توضيحي (كروكي) عن موقع الحاد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شمسية ل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عن تقرير شرطة المرو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الملف إلى التأمينات مع الاحتفاظ بنسخة في قسم شئون الموظفي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بليغ السفارة في حال الوفا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عنوان ورثة المتوفى إلى مكتب التأمينات لإرسال التعويض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AE5D4-65C3-4587-9C45-9AD94803997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428186-4E8E-4364-82A8-1C95DDCB4739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حقيق في المخالفات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بلاغ خطياً عن المخالفة فور وقوع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تحقيق مع الموظ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حقيق وإعداد تقرير بذل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رفع نتيجة التحقيق والتوصيات للمدير الع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عتماد المدير العام للعقوبة أو رفضها أو تعدي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بلاغ الموظف بمضمون العقوبة وله حق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أسابيع من تاريخ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جب على الإدارة الرد على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اً من استلام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جيل العقوبة في ملف الموظف وتنفيذها خاصة العقوبات الما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تدرج العقوبات حسب شدتها وأهميتها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نبيه – الإنذار – التوبيخ – الفصل- الط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E3441-2047-430B-9745-CAD65600D61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DBC35F-FF8B-45DD-A8C6-1775BA1E4268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 الإجراءات الخاصة       بالتأمينات الاجتماعي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جيل الموظف في التأمينات الاجتماعية فور توقيع العق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يجاد سجلات خاصة بالتأمينات الاجتماعية لكل العامل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حتساب قيمة اشتراك التأمينات الاجتماعية عن كل موظف وحسمها من راتبه عن طريق الإدارة المال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بلاغ التأمينات الاجتماعية بأية تعديلات على بيانات الموظف سواء تعديل أو ترك للخدمة أو خلاف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8D46-EBEC-4B93-AF54-2816625769B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7DB551-5B05-43B6-8BE7-D06366C43F96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الإجراءات الخاصة بقياس الأداء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6095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كون نماذج تقييم الأداء لدى إدارة الموارد البش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ديد موعد لتقييم الأداء بالاتفاق مع الإدارة العامة والإدارات الأخ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نماذج إلى الإدارات المختلف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رف الإدارة على عملية التقييم وتتأكد من سلامة الإجراءات المتبع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ليل نتائج التقييم وإبلاغ كل إدارة بالنتائج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ضع المقترحات لكل موظف للتدريب أو الترقية أو العلاوات أو غير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نتائج الاقتراحات أولاً بأو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تح سجل لأداء كل موظف لمراقبة تطور الأد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90C0B-98A6-4D99-88B2-C9F45936A6D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BC46BE-AD21-431E-8D4D-99430A10668E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5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صفية الاستحقاقات عند انتهاء العقد 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صر العمال الذين ستنتهي عقوده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متابعة استصدار قرارات انتهاء العق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عمال المعنيين بانتهاء عقودهم للقيام بإجراءات إخلاء الط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ساب استحقاقات العمال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إدارة المالية بالاستحقاقات لإنهاء إجراءات الص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سفر من تذاكر وحجوز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حصول على تأشيرة الخروج النهائي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استلام وتسليم الجواز والإقامة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ثبات بيانات إنهاء العقد في السجل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جهات الخارجية بانتهاء العقد (التأمينات؛ المستوصفات؛...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4B03-4F48-4B0A-910B-3599DB0D33D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0963F9-3F79-4A5E-94B6-B4A4BB642AA9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إعداد مسير الرواتب والأجور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عداد المسير قبل أسبوع على الأقل من نهاية الشهر؛ من واقع قوائم العاملين وأرقامهم الوظي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دخال العمليات التي تمت في الشهر ولها أثر مالي مثل الحسومات بأنواعها؛ العلاوات والمكافآت؛ وتعويض العمل الإضاف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مسير للإدارة المالية بعد توقيعه أصو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وصرف المستحقات من قبل الإدارة المالية قبل نهاية ال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رد على أي استفسارات من جانب العاملين وإرسال صورة من تفصيلات الراتب والإضافات والحسومات لكل منهم إذا رغب في ذل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227DA-7CF2-47CD-A635-888DE498209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3AB352-E0F7-423F-AB91-6EB0FEA54D92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التوظيف       الداخلي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ديد  شروط كل وظيفه من خلال وصف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كيل لجنة للمقاب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جراء المقابلات ورفع التوصي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مدير العام قرار 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كمال الإجراءات الإدارية المتعلقة ب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64311-9353-4C16-9C27-F785D4E53DC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4A2E3B-9501-44F9-B342-D4A83DA24ACD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وظيف الخارجي (الاستقدام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فرز الطلبات لمعرفة الملائم من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حديد مكان وزمان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للسفر وإجراء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تابعة إنهاء إجراءات استقدام من يقع عليهم الإختيا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ستكمال الإجراءات الإدارية المتعلقة بالتوظي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F42E1-1A5E-4BF5-99AF-AEAD1FF892E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582686-37B9-4D07-AA2C-EE4A9B89A9A3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جازات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قديم طلب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رفع الطلب للإدارة العلي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مل إخلاء طرف لإنهاء إجراءات استحقاقاته المال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صدار قرار الإجازة وتبليغ الموظف ومديره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نهاء إجراءات السفر وتسليم واستلام الإقامة وجواز السف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عداد مذكرة المباشرة بعد العودة وتسليم الإقامة واستلام الجوا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5C30C-B7ED-4F50-AD75-6F76B1C6D2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370250-DAC0-4734-BBD7-8D263EC21BC5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انقطاع عن العمل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 – إجراءات الانقطاع لغير ا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نقطاع أكثر من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ساعة ؛ التأكد من وجوده من عدمه بالسكن؛ وفي عدم وجوده تبلغ الإدارة لاتخاذ الإجراءات المناسبة في مثل هذه الحا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تجاوز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يتم اتخاذ إجراءات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- إجراءات الانقطاع ل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 حال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تبلغ الإدارة بذل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تم مخاطبة الموظف وإمهاله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لمباشرة العمل وإلا يتم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45304-052C-4C3C-9534-925E7E01747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A1172B-0344-418D-87F4-7BECED8F8696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- إجراءات الغياب عن العمل :</a:t>
            </a:r>
            <a:endParaRPr b="1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رفع أيام الغياب أول بأو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خصم أجر يوم العم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بلاغ الموظف بالخص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ند تكرار الغياب يتم تطبيق اللائحة المعمول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33E5-8465-4F03-8027-8028338456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76F24E-F72B-4A72-AE94-CCDBB052B869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ي القيد (الاستقالة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قديم طلب الاستقال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وافقة الرئيس المباشر أو عدم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ما لديه من عهد و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عمل إخلاء ط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طي القيد أو الاستقا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بدء بإجراءات الخروج النهائ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ال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نهاء إجراءات السفر بعد تسليمه الجواز مع نهاية آخر يوم عمل 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7388A-52F7-4D81-A655-26763B31F8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45CE00-26B3-4957-9F11-BD2C6DF09DC8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جديد الإقام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 الإقامة مع (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صورة شخصية قبل فترة كاف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حتفاظ بصورة من الإقامة لدى الموظف وإدار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يام بإجراءات تجديدي الإقا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ها إرسالها للموظف عن طريق إدارته بعد توقيعه بالاستلا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E4D98-5B81-40E7-8091-5DD41156DD7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F304E0-A186-40A2-9242-D6D04EEA8AC8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لب سلفه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عبئة النموذج المعد لذلك مع توضيح أسباب طلب السلف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فاق نموذج كفالة موقع من اثنين م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بعد التوقيع من المدير المباشر تحول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حول إلى المدير العام في حال الحاجة للاستثن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قسم الرواتب والأجور للتأكد من قدرة الموظف على التسدي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قرار بالموافقة أو التعد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إجراءات الص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96A80-0BA9-412C-9815-8727F0CAD45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AC8E15-3E3F-4468-8D69-A881AF94993C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aining center</cp:lastModifiedBy>
  <dcterms:modified xsi:type="dcterms:W3CDTF">2005-02-19T15:51:43Z</dcterms:modified>
  <cp:revision>6</cp:revision>
  <dc:subject/>
  <dc:title>عرض تقديمي من PowerPoint</dc:title>
</cp:coreProperties>
</file>